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24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0728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1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рганска хемија 2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i="1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труктуре на базност органских једињења</a:t>
            </a:r>
            <a:br>
              <a:rPr sz="2800"/>
            </a:br>
            <a:br>
              <a:rPr sz="2800"/>
            </a:b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томерија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1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ртати резонантне структуре </a:t>
            </a:r>
            <a:br>
              <a:rPr sz="2400"/>
            </a:br>
            <a:r>
              <a:rPr b="0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итроанилина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анилина и уз помоћ истих објаснити какав ефекат има нитро група у ком полож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3"/>
          <p:cNvGraphicFramePr/>
          <p:nvPr/>
        </p:nvGraphicFramePr>
        <p:xfrm>
          <a:off x="1692360" y="3068640"/>
          <a:ext cx="563220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068640"/>
                    <a:ext cx="563220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6164280" cy="251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2268360" y="3645000"/>
            <a:ext cx="2546640" cy="292572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10"/>
          <p:cNvCxnSpPr/>
          <p:nvPr/>
        </p:nvCxnSpPr>
        <p:spPr>
          <a:xfrm flipV="1">
            <a:off x="3995280" y="4220640"/>
            <a:ext cx="242028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TextBox 12"/>
          <p:cNvSpPr/>
          <p:nvPr/>
        </p:nvSpPr>
        <p:spPr>
          <a:xfrm>
            <a:off x="6415200" y="3368520"/>
            <a:ext cx="254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а је база, али разлог није позитиван индуктивни ефекат метил група (мали утицај), већ стерно спречавање резонан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са незасићеним азотом и хетероцикличне базе са ароматичним карак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050920"/>
            <a:ext cx="82296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ост опада следећим редослед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1"/>
          <p:cNvGraphicFramePr/>
          <p:nvPr/>
        </p:nvGraphicFramePr>
        <p:xfrm>
          <a:off x="2700360" y="2492280"/>
          <a:ext cx="309564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492280"/>
                    <a:ext cx="309564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900000" y="3459240"/>
            <a:ext cx="7066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пирол показује базне особи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830920" cy="4786200"/>
          </a:xfrm>
          <a:prstGeom prst="rect">
            <a:avLst/>
          </a:prstGeom>
          <a:ln w="0">
            <a:noFill/>
          </a:ln>
        </p:spPr>
      </p:pic>
      <p:cxnSp>
        <p:nvCxnSpPr>
          <p:cNvPr id="82" name="Straight Arrow Connector 4"/>
          <p:cNvCxnSpPr/>
          <p:nvPr/>
        </p:nvCxnSpPr>
        <p:spPr>
          <a:xfrm flipV="1">
            <a:off x="4356000" y="2565000"/>
            <a:ext cx="223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Box 5"/>
          <p:cNvSpPr/>
          <p:nvPr/>
        </p:nvSpPr>
        <p:spPr>
          <a:xfrm>
            <a:off x="6588000" y="2103480"/>
            <a:ext cx="187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и пар на азоту није слобо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358920" y="1341360"/>
            <a:ext cx="854388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83631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ост кисеоничних једињ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слабије базе од азотових једињења одговарајуће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4896000" cy="3900600"/>
          </a:xfrm>
          <a:prstGeom prst="rect">
            <a:avLst/>
          </a:prstGeom>
          <a:ln w="0">
            <a:noFill/>
          </a:ln>
        </p:spPr>
      </p:pic>
      <p:cxnSp>
        <p:nvCxnSpPr>
          <p:cNvPr id="89" name="Straight Arrow Connector 4"/>
          <p:cNvCxnSpPr/>
          <p:nvPr/>
        </p:nvCxnSpPr>
        <p:spPr>
          <a:xfrm>
            <a:off x="5435640" y="321264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Straight Arrow Connector 6"/>
          <p:cNvCxnSpPr/>
          <p:nvPr/>
        </p:nvCxnSpPr>
        <p:spPr>
          <a:xfrm>
            <a:off x="5651640" y="440028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Straight Arrow Connector 8"/>
          <p:cNvCxnSpPr/>
          <p:nvPr/>
        </p:nvCxnSpPr>
        <p:spPr>
          <a:xfrm>
            <a:off x="4932000" y="62370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Box 9"/>
          <p:cNvSpPr/>
          <p:nvPr/>
        </p:nvSpPr>
        <p:spPr>
          <a:xfrm>
            <a:off x="6624720" y="2889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H)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ет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6624720" y="417996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H)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с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6305400" y="5803920"/>
            <a:ext cx="201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и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H)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ост амино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томе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13372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пштем смислу таутомерија означава реверзибилна интрамолекулска премештања са брзом променом валенционих веза на атомима или атомским групама органског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постојање два или више различитих структурних изомера који се налазе у равнотежи и могу се претварати један у др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и изомери у таутомерној равнотежи су таутомери (таутомерни облици), а процес претварања једног облика у други таутом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које се премешта је најчешће водоник (прототропна таутомер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2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ја једињења је карактеристичан овај облик таутомериј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томерија кето-енолног ти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03520" y="3452760"/>
            <a:ext cx="50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исати механизам наведене хемијске реа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2627280" y="4097160"/>
          <a:ext cx="330696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097160"/>
                    <a:ext cx="330696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3"/>
          <p:cNvSpPr/>
          <p:nvPr/>
        </p:nvSpPr>
        <p:spPr>
          <a:xfrm>
            <a:off x="0" y="15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базе су најчешће амини, а њихова јачина зависи од лакоће са којом ове базе примају про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ћа везивања протона условљена је расположивошћу слободног електронског пара на базном атому (азо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ан индуктивни ефекат суседних група ће повећавати базност, док ће негативан индуктивни и негативан резонантни ефекат смањивати баз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труктурних фактора на јачину базе је супротан од утицаја на јачину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Object 1"/>
          <p:cNvGraphicFramePr/>
          <p:nvPr/>
        </p:nvGraphicFramePr>
        <p:xfrm>
          <a:off x="2700360" y="2349360"/>
          <a:ext cx="32432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349360"/>
                    <a:ext cx="32432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карбонилн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rcRect l="0" t="0" r="0" b="58134"/>
          <a:stretch/>
        </p:blipFill>
        <p:spPr>
          <a:xfrm>
            <a:off x="4572000" y="1700280"/>
            <a:ext cx="4392720" cy="936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rcRect l="0" t="38657" r="0" b="0"/>
          <a:stretch/>
        </p:blipFill>
        <p:spPr>
          <a:xfrm>
            <a:off x="755640" y="2827440"/>
            <a:ext cx="4392720" cy="1369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15960" y="4724280"/>
            <a:ext cx="5473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арбонилн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66760" y="2276640"/>
            <a:ext cx="86104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фатични амини и дери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познавања индуктивног ефекта може се очекивати следећи редослед базности 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1"/>
          <p:cNvGraphicFramePr/>
          <p:nvPr/>
        </p:nvGraphicFramePr>
        <p:xfrm>
          <a:off x="2124000" y="3141720"/>
          <a:ext cx="37720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141720"/>
                    <a:ext cx="3772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98360" y="3727440"/>
            <a:ext cx="5813640" cy="3086280"/>
          </a:xfrm>
          <a:prstGeom prst="rect">
            <a:avLst/>
          </a:prstGeom>
          <a:ln w="0">
            <a:noFill/>
          </a:ln>
        </p:spPr>
      </p:pic>
      <p:cxnSp>
        <p:nvCxnSpPr>
          <p:cNvPr id="48" name="Straight Arrow Connector 5"/>
          <p:cNvCxnSpPr/>
          <p:nvPr/>
        </p:nvCxnSpPr>
        <p:spPr>
          <a:xfrm>
            <a:off x="6011640" y="5151240"/>
            <a:ext cx="86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TextBox 6"/>
          <p:cNvSpPr/>
          <p:nvPr/>
        </p:nvSpPr>
        <p:spPr>
          <a:xfrm>
            <a:off x="6800760" y="455148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није очекивани редослед базности у воденим раствори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м поларних група са негативним индуктивним ефектом смањује се електронска густина на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-акцетпорском атому што доводи до опадања базности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"/>
          <p:cNvGraphicFramePr/>
          <p:nvPr/>
        </p:nvGraphicFramePr>
        <p:xfrm>
          <a:off x="2124000" y="3429000"/>
          <a:ext cx="2087640" cy="24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429000"/>
                    <a:ext cx="2087640" cy="24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3" name="Straight Arrow Connector 3"/>
          <p:cNvCxnSpPr/>
          <p:nvPr/>
        </p:nvCxnSpPr>
        <p:spPr>
          <a:xfrm>
            <a:off x="4427280" y="4652640"/>
            <a:ext cx="136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TextBox 5"/>
          <p:cNvSpPr/>
          <p:nvPr/>
        </p:nvSpPr>
        <p:spPr>
          <a:xfrm>
            <a:off x="5984640" y="431172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да не показује баз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једне карбоксилне групе везане за аз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9036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две карбоксилне групе везане за 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rcRect l="6346" t="10877" r="3921" b="0"/>
          <a:stretch/>
        </p:blipFill>
        <p:spPr>
          <a:xfrm>
            <a:off x="684360" y="1708200"/>
            <a:ext cx="69120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а амино-једињ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лин и други ароматични амини су слабије базе од засићених алифатичних амина или алицикличних 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се објашњава негативним резонантним ефектом бензеновог прстена и у некој мери негативним индуктивним ефект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ибридизованих угљеникових атома у ароматичном прст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ан електронски пар на атому азота код анилина је делимично делокализован услед интеракције са електронима из ароматичног прст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rcRect l="0" t="0" r="2437" b="0"/>
          <a:stretch/>
        </p:blipFill>
        <p:spPr>
          <a:xfrm>
            <a:off x="1222200" y="2421000"/>
            <a:ext cx="608652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08080" y="1197000"/>
            <a:ext cx="82296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е константе анилина и супституисаних ани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08080" y="2035080"/>
            <a:ext cx="8781840" cy="2579760"/>
          </a:xfrm>
          <a:prstGeom prst="rect">
            <a:avLst/>
          </a:prstGeom>
          <a:ln w="0">
            <a:noFill/>
          </a:ln>
        </p:spPr>
      </p:pic>
      <p:sp>
        <p:nvSpPr>
          <p:cNvPr id="65" name="Left Brace 2"/>
          <p:cNvSpPr/>
          <p:nvPr/>
        </p:nvSpPr>
        <p:spPr>
          <a:xfrm rot="16200000">
            <a:off x="4715280" y="1143720"/>
            <a:ext cx="648000" cy="7561080"/>
          </a:xfrm>
          <a:custGeom>
            <a:avLst/>
            <a:gdLst>
              <a:gd name="textAreaLeft" fmla="*/ 414000 w 648000"/>
              <a:gd name="textAreaRight" fmla="*/ 648000 w 648000"/>
              <a:gd name="textAreaTop" fmla="*/ 108360 h 7561080"/>
              <a:gd name="textAreaBottom" fmla="*/ 7452720 h 75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641320" y="5241960"/>
            <a:ext cx="49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постоји разлика у вредностима констан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висности од полажаја супституен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na</cp:lastModifiedBy>
  <dcterms:modified xsi:type="dcterms:W3CDTF">2016-09-06T14:26:29Z</dcterms:modified>
  <cp:revision>279</cp:revision>
  <dc:subject/>
  <dc:title>Slide 1</dc:title>
</cp:coreProperties>
</file>